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1D3-5CCB-4C63-9D3F-19565A2A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717-6E4C-45CE-97B4-3BCC2443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4F7-353F-4B69-A7BE-EE71FC1B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7E1-6033-4244-B9E7-0FDEA687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90006-3AC9-4277-B64A-00C0AB00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4E794-F8B9-45FE-8E47-0636C075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A5779-80CA-48EA-98EB-36F150B3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B11D7-2C1F-4A16-81C9-D38FA1A0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2415E-9AF2-4CD8-8933-183E1AA3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FDA7D-F7AE-466E-86FF-B0CE821C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D60FE-26AC-44B3-8718-2D95E4AB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D82-302B-4EA6-96EF-71766A1D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E11CA-64C9-4B5B-BDDB-8DFEC81A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92FFC-8E67-4759-A954-9B2D0070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B5B6A-3B28-42BA-A6E2-66F4E846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FBC5F-A41C-49C6-8F66-B9DFF720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883D3-76B8-4122-B967-CA9026FF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D44-27FE-4EC5-9D26-894DC790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D95-2AE1-4D6F-95E7-8DF58D9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BCD-CD0F-4833-A102-DD34EF78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97E-B9E2-481B-BC24-4EB37069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1D1-6532-4099-8F79-F0EA41D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118-FD37-4F32-B4A4-70F75CD3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ADB-216B-4758-8B6B-2DD8663D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713F-E810-4C58-A4C0-A77B62B51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22A3-C3FE-47D0-8FBD-C59CA1C29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ffff"/>
                </a:solidFill>
                <a:latin typeface="Tahoma"/>
              </a:rPr>
              <a:t>Borg </a:t>
            </a:r>
            <a:r>
              <a:rPr b="0" lang="nl-BE" sz="9600" spc="-1" strike="noStrike">
                <a:solidFill>
                  <a:srgbClr val="ffffff"/>
                </a:solidFill>
                <a:latin typeface="Tahoma"/>
              </a:rPr>
              <a:t>voor</a:t>
            </a:r>
            <a:r>
              <a:rPr b="0" lang="fr-FR" sz="9600" spc="-1" strike="noStrike">
                <a:solidFill>
                  <a:srgbClr val="ffffff"/>
                </a:solidFill>
                <a:latin typeface="Tahoma"/>
              </a:rPr>
              <a:t> Palm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ahoma"/>
              </a:rPr>
              <a:t>Door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 Dimitri Verspec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Mee bezig 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Demoprogjes voor de visor aan het debug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TCP/IP socket functies die gebruikt worden in de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borg router demonstr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De Borg makefiles aan het aanpassen zodat compilatie voor palmos mogelijk 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(Al zal het voorlopig nog niet werk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Geheugen segmentatie probleem aan het analys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Te doe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Routerless borg por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Segmentatieprobleem verder uitwerken &amp;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implement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Berkeley socket API voor palm verder debug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Makefiles verder aanpassen voor PalmOS compila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Verband met thesi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De meeting planner/mail-agent heeft een netwerkverbinding nodig &amp; dus moet de borg router op een palmOS toestel wer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Borg zelf is uiteraard nodig om de agents te runnen. (Segmentatie probleem, makefiles, 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Borg </a:t>
            </a:r>
            <a:r>
              <a:rPr b="0" lang="nl-BE" sz="5400" spc="-1" strike="noStrike">
                <a:solidFill>
                  <a:srgbClr val="ffffff"/>
                </a:solidFill>
                <a:latin typeface="Tahoma"/>
              </a:rPr>
              <a:t>porten</a:t>
            </a: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 naar pal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Borg router por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outerless borg por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bovenstaande samenbrengen in volledige Borg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Borg router porte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PalmOS ondersteunt linux berkeley soc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Linux Borg Router code is portable naar </a:t>
            </a: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palm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Toevoegen extra functies om berkeley socket ondersteuning in palm mogelijk te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Borg makefiles aanpassen om noodzakelijke files te includ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Gebruikte functies in de library uittesten in testprogramma’s op de vis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Berkeley socket suppor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54720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Palmos ondersteund 2 TCP/IP api’s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NetLibrary API (eigen aan palm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Berkeley API (uitbreiding van de NetLibrary d.m.v. « glue » cod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Berkeley API ondersteund de meest gebruikte TCP/IP socket functies uit lin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Naast berkeley API nog enkele NetLib functies nodig voor totale controle &amp; compatibiliteit. (Sluiten en openen van de NetLi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3284640"/>
            <a:ext cx="259092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Net library 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1700280"/>
            <a:ext cx="259092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Berkeley 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6360" y="4941720"/>
            <a:ext cx="259092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8720" y="4076640"/>
            <a:ext cx="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2421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Berkeley API in bor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78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Toevoegen enkele NetLibrary functies &amp; « glue » code noodzakelij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_socket_initialise_() opent de NetLibrary (Activeerd TCP/IP ondersteun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Bestaat reeds in de StdFiles van alle platfor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_socket_cleanup_() sluit de Net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Is toegevoegd in alle StdFi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1628640"/>
            <a:ext cx="215892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ockets.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1628640"/>
            <a:ext cx="2089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tdPalm.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1628640"/>
            <a:ext cx="208764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tdPalm.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1989000"/>
            <a:ext cx="6490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1989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133720"/>
            <a:ext cx="2158920" cy="1366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ahoma"/>
              </a:rPr>
              <a:t>_socket_initialise_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ahoma"/>
              </a:rPr>
              <a:t>_socket_cleanup_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tandaard Rou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unc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2133720"/>
            <a:ext cx="2087640" cy="1366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Include libra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et « glue »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td Type declara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td Var declara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2133720"/>
            <a:ext cx="2087640" cy="1366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Implemenatie v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uncties in Sockets.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tdPalm.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Geheugen segmentati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Geheugenbeperkingen onder palmO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Elke Form (stukje programma) mag slechts een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beperkte hoeveelheid geheugen gebruiken (64 Kb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standaard, 128 kb ma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Borg gebruikt uiteraard meer geheu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Geheugen segmentatie over verschillende « forms »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is nodi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Geheugen segmentati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5616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Segment controller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Maakt forms aan naarmate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geheugen nodig 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Beheert de segmen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-Weet naar welke form 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weg te schrijv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-Weet uit welke form te 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lez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2421000"/>
            <a:ext cx="223380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B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(Memory manag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4076640"/>
            <a:ext cx="223380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eg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5589720"/>
            <a:ext cx="100800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6165720"/>
            <a:ext cx="1008000" cy="2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79640" y="587700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5589720"/>
            <a:ext cx="100800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6165720"/>
            <a:ext cx="1008000" cy="2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46560" y="587700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5589720"/>
            <a:ext cx="100800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6165720"/>
            <a:ext cx="1008000" cy="2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4920" y="587700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5589720"/>
            <a:ext cx="100800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6165720"/>
            <a:ext cx="1008000" cy="2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83280" y="587700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48360" y="5589720"/>
            <a:ext cx="100836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6165720"/>
            <a:ext cx="1008360" cy="2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451640" y="587700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596360" y="508428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403280" y="5373720"/>
            <a:ext cx="684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44000" y="5373720"/>
            <a:ext cx="5760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5373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537372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537372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537372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537372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51640" y="537372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596360" y="3428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Geheugen segmentati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De Segment controller zorgt er dus voor dat de borg geheugencontroler denkt dat het palmOS geheugen ongesegmenteerd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Benodigd voor geheugensegment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De segmenter die forms aanmaakt/verwijdert en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die ervoor zorgt dat voor borg het geheugen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ongesegmenteerd lijk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Form creator die de invisible forms zal aanm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-Form remover die overbodig geworden forms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verwijdert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ahoma"/>
              </a:rPr>
              <a:t>Reeds gedaa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In StdPalm.h &amp; c de nodige glue code en definities toegevoegd voor ondersteuning van de berkeley sock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De nodige borg Router functies in de StdPalm files gedeclaree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3:51:31Z</dcterms:created>
  <dc:creator>Verspecht Dimitri</dc:creator>
  <dc:description/>
  <dc:language>en-US</dc:language>
  <cp:lastModifiedBy>Verspecht Dimitri</cp:lastModifiedBy>
  <dcterms:modified xsi:type="dcterms:W3CDTF">2001-11-15T18:22:17Z</dcterms:modified>
  <cp:revision>37</cp:revision>
  <dc:subject/>
  <dc:title>Borg voor Palm</dc:title>
</cp:coreProperties>
</file>